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E001-9CD8-4F2C-A551-A9FFA1E9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2931-3BE7-41BB-A03C-AD258282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1A0B-8B74-4D35-A032-C1D70612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780F-4E88-4FB3-B976-4497743F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8139-5AA9-4333-B478-F6FB2D4A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F98F-89F6-4E74-B226-86224E82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A636-F3A3-44DC-BE72-3AE02D53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5FF2-1EA5-4165-92B8-E4BF73D0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7F2E-5E57-44D9-8049-C724DD20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B09F-2B20-42F3-8D1B-31A74C7D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759A-8A7C-4B03-908C-FA2F0D28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F06C-9EF9-4260-9C1D-B268ECFE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0388-0D4F-492F-BA2A-2AC2119A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D4A6-8990-404F-A84A-34E6308E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0B3A-0325-4517-942C-5182AECB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8559-EE4D-4E2B-90AA-79524538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9F95-7185-4C6E-875B-A291A172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E405D-F7D4-4508-AC42-FB7DDA55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D535-AB73-4049-9916-D1019AD2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CB5B-3F23-4B03-A56C-063C8BDC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0167-0033-48FA-9047-B0D7B685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D129F-E91B-4B0A-8DB9-3EAFB954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E5A7-C45F-439E-843F-562ABF77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FB55-20F8-4163-981F-25043A91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0F76-0E60-4C13-B3BF-02071B0D89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9056-41C0-433C-A033-B0553DB9A3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508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8160" y="2225160"/>
            <a:ext cx="764676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ubstitution cipher that tries to hide frequency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it by randomly assigning one of four numbers to each letter based on a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0EEF-B858-4268-9B02-0DB8997670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6520" y="1916280"/>
            <a:ext cx="8520120" cy="28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numbers 1 to 100 (represent 100 by 00) up into four groups of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one number from each group to the letters a to z (skipping j – any j in the plaintext is coded as an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accomplished like the simple shift cipher so if a is assigned 07 then b is assigned 08,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determined by a four letter keyword, for example if the keyword is “next” then the assignment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01560" y="4703760"/>
            <a:ext cx="58197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1 02 03 04 05 06 07 08 09 10 11 12 13 14 15 16 17 18 19 20 21 22 23 24 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  o  p  q  r  s  t  u  v  w  x  y  z  a  b  c  d  e  f  g  h  i  k  l  m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6 27 28 29 30 31 32 33 34 35 36 37 38 39 40 41 42 43 44 45 46 47 48 49 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  f  g  h  i  k  l  m  n  o  p  q  r  s  t  u  v  w  x  y  z  a  b  c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1 52 53 54 55 56 57 58 59 60 61 62 63 64 65 66 67 68 69 70 71 72 73 74 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  y  z  a  b  c  d  e  f  g  h  i  k  l  m  n  o  p  q  r  s  t  u  v  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6 77 78 79 80 81 82 83 84 85 86 87 88 89 90 91 92 93 94 95 96 97 98 99 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  u  v  w  x  y  z  a  b  c  d  e  f  g  h  i  k  l  m  n  o  p  q  r 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7120" y="4808520"/>
            <a:ext cx="344520" cy="1720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F16D-DF33-4C06-AFFE-52C75369FF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4-30T23:35:38Z</dcterms:modified>
  <cp:revision>69</cp:revision>
  <dc:subject/>
  <dc:title>CAP Cryptographic Analysis Program</dc:title>
</cp:coreProperties>
</file>